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9FC-CF76-4766-AF62-681CD93B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57D-3951-4178-B0F3-60F5A353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168-688B-421C-8AE4-78023D4D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9C1-BD87-4E48-AAD9-2AA81E85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B1D-53CD-4E9A-A87C-E17856D7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699-0208-4D55-A1EE-67799677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C8A-10CD-42FD-A1D6-B4882387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633-A3D9-4105-B886-4D17FF45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045-1121-4C32-AE84-82F58BDD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10D-677B-4BF1-9CE4-23152CDF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4D5-18FD-4693-8308-C63115A4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3BA-35B9-4CB7-8C64-45CC50FC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11CC-3A73-47B0-B002-1C0E17297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ormal or Informal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That is the ques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s://encrypted-tbn1.google.com/images?q=tbn:ANd9GcS0Qvem6dCpztZ9DSKZJNFcnpUofApvkAp_E2zKj-auFnGQP0xf"/>
          <p:cNvPicPr/>
          <p:nvPr/>
        </p:nvPicPr>
        <p:blipFill>
          <a:blip r:embed="rId1"/>
          <a:stretch/>
        </p:blipFill>
        <p:spPr>
          <a:xfrm>
            <a:off x="2819520" y="2514600"/>
            <a:ext cx="35049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s://encrypted-tbn2.google.com/images?q=tbn:ANd9GcQWkUIvVJBMVCm-RgDWNqW-6VUnxSFZrdphsVuCaiT_sMZ_lJMGlw"/>
          <p:cNvPicPr/>
          <p:nvPr/>
        </p:nvPicPr>
        <p:blipFill>
          <a:blip r:embed="rId1"/>
          <a:stretch/>
        </p:blipFill>
        <p:spPr>
          <a:xfrm>
            <a:off x="2438280" y="2362320"/>
            <a:ext cx="44197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s://encrypted-tbn3.google.com/images?q=tbn:ANd9GcRhwAZ80rf_PWUl9Jg7NOTAbcLzEKCaNgCxL9qfbd2H4XDDotpzAQ"/>
          <p:cNvPicPr/>
          <p:nvPr/>
        </p:nvPicPr>
        <p:blipFill>
          <a:blip r:embed="rId1"/>
          <a:stretch/>
        </p:blipFill>
        <p:spPr>
          <a:xfrm>
            <a:off x="2895480" y="2514600"/>
            <a:ext cx="3048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s://encrypted-tbn1.google.com/images?q=tbn:ANd9GcTZdATMtJEdd-YzvPyOGt5bwckkY5bxOSHHlt8dc10lYh0jFiyVhA"/>
          <p:cNvPicPr/>
          <p:nvPr/>
        </p:nvPicPr>
        <p:blipFill>
          <a:blip r:embed="rId1"/>
          <a:stretch/>
        </p:blipFill>
        <p:spPr>
          <a:xfrm>
            <a:off x="2895480" y="2666880"/>
            <a:ext cx="28195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9T19:12:20Z</dcterms:created>
  <dc:creator>Robbie</dc:creator>
  <dc:description/>
  <dc:language>en-US</dc:language>
  <cp:lastModifiedBy>Robbie</cp:lastModifiedBy>
  <dcterms:modified xsi:type="dcterms:W3CDTF">2012-08-19T19:12:47Z</dcterms:modified>
  <cp:revision>1</cp:revision>
  <dc:subject/>
  <dc:title>Formal or Informal?  </dc:title>
</cp:coreProperties>
</file>